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BBE3-2593-442D-B0C5-939D3D42733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6699"/>
                </a:solidFill>
                <a:latin typeface="Verdana"/>
              </a:rPr>
              <a:t>Quando o browser WAP é usado para solicitar informação, o pedido da URL é enviado usando os protocolos WAP. Esse pedido é enviado através da rede wireless para o </a:t>
            </a:r>
            <a:r>
              <a:rPr b="1" lang="pt-BR" sz="1200" spc="-1" strike="noStrike">
                <a:solidFill>
                  <a:srgbClr val="006699"/>
                </a:solidFill>
                <a:latin typeface="Verdana"/>
              </a:rPr>
              <a:t>gateway WAP</a:t>
            </a:r>
            <a:r>
              <a:rPr b="0" lang="pt-BR" sz="1200" spc="-1" strike="noStrike">
                <a:solidFill>
                  <a:srgbClr val="006699"/>
                </a:solidFill>
                <a:latin typeface="Verdana"/>
              </a:rPr>
              <a:t>. O gateway permite aos usuários da rede wireless conectarem-se à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6699"/>
                </a:solidFill>
                <a:latin typeface="Verdana"/>
              </a:rPr>
              <a:t>Quando a solicitação recebida é decodificada, o gateway executa algumas tarefas. Então a solicitação decodificada é convertida do protocolo </a:t>
            </a:r>
            <a:r>
              <a:rPr b="1" lang="pt-BR" sz="1200" spc="-1" strike="noStrike">
                <a:solidFill>
                  <a:srgbClr val="006699"/>
                </a:solidFill>
                <a:latin typeface="Verdana"/>
              </a:rPr>
              <a:t>WSP</a:t>
            </a:r>
            <a:r>
              <a:rPr b="0" lang="pt-BR" sz="1200" spc="-1" strike="noStrike">
                <a:solidFill>
                  <a:srgbClr val="006699"/>
                </a:solidFill>
                <a:latin typeface="Verdana"/>
              </a:rPr>
              <a:t> (no padrão WAP) para o protocolo da Internet HTTP.</a:t>
            </a:r>
            <a:br>
              <a:rPr sz="1200"/>
            </a:br>
            <a:br>
              <a:rPr sz="1200"/>
            </a:br>
            <a:r>
              <a:rPr b="0" lang="pt-BR" sz="1200" spc="-1" strike="noStrike">
                <a:solidFill>
                  <a:srgbClr val="006699"/>
                </a:solidFill>
                <a:latin typeface="Verdana"/>
              </a:rPr>
              <a:t>A seguir, o que acontece é o envio dessa requisição para o web server através da Internet. O web server recebe, lê a requisição e retorna uma resposta com conteúdo WML para o gateway W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6699"/>
                </a:solidFill>
                <a:latin typeface="Verdana"/>
              </a:rPr>
              <a:t>O gateway WAP recebe o conteúdo WML do servidor web e o converte para o padrão </a:t>
            </a:r>
            <a:r>
              <a:rPr b="1" lang="pt-BR" sz="1200" spc="-1" strike="noStrike">
                <a:solidFill>
                  <a:srgbClr val="006699"/>
                </a:solidFill>
                <a:latin typeface="Verdana"/>
              </a:rPr>
              <a:t>bytecode</a:t>
            </a:r>
            <a:r>
              <a:rPr b="0" lang="pt-BR" sz="1200" spc="-1" strike="noStrike">
                <a:solidFill>
                  <a:srgbClr val="006699"/>
                </a:solidFill>
                <a:latin typeface="Verdana"/>
              </a:rPr>
              <a:t> do WAP, codificando a informação para um formato binário de forma que possa ser usada menos largura de banda. Essa redução pode variar de 40 a 7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6699"/>
                </a:solidFill>
                <a:latin typeface="Verdana"/>
              </a:rPr>
              <a:t>O conteúdo codificado é encriptado e enviado através da rede wireless para o browser WAP. O browser recebe a resposta do gateway WAP e a exibe no display do dispositivo W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GVT testa ADSL sem f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Quinta-feira, 23 de maio de 2002 - 17h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ÃO PAULO – A GVT, operadora-espelho da Brasil Telecom, começou os primeiros testes do acesso via ADSL sem fi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 tecnologia responsável por isso é a EMGW ou Enhanced Multigain Wireless, que opera na frequência de 3,5 GHz e possibilita o acesso à internet em até 512 Kbps. Os EMGW são da israelense ECI, a mesma companhia que fornece os equipamentos WLL para a GV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s testes começaram no mês passado em Curitiba em 25 residências e, agora, partem para Porto Alegre. Ainda não há previsão para o lançamento comercial da tecnolog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nfo 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ttp://www2.uol.com.br/info/aberto/infonews/052002/23052002-15.sh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e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ric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-68 gr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and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reo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WarpLink Broadband Router K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4DCE-1439-483C-B159-DBBA7485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33D7-F26F-444D-873C-670F1CEA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10B4-3CF1-47AE-ABB7-C97A20F4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9297-1449-403C-A102-8DA89729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C5F9-2FB8-4D11-A2F8-C707AD05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5986-FA7F-48B2-8575-D441843D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B8BC-DD43-4CDD-BE75-959325FB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797A-79B6-4C7C-A0B5-C49EDBD3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4C1A-0365-4479-8AA1-134BB781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773B-8D55-48FE-BC0D-4D141662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6354-AFB8-47D2-A887-ECF0FBEF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EAFC-5FD8-4DF2-84DC-1AFEA5DC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D801-B2D0-42F3-AD4E-F050781D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B98C-BD4D-4537-B9A9-F327670A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A008-34CF-43AA-B7FB-8C964937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CE2D-BD29-4EA8-AAA2-5869A876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2261-D14E-4E9B-88E7-D4F396F8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11F6-E701-4D7A-9950-60C4FC3B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5DD6-E987-4180-9B7A-80BEFB5A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06F-BFDD-4477-BCCA-7BF0ACE5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4CDB-7BEA-402B-9EB9-2469CFC0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757-344F-442D-8A15-12522043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64AC-E8FD-4132-8865-002DE4B0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531F-16B6-4018-B500-CC3F24AE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AE2B-81AD-43F5-992B-0197CBB528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0FAF-08E0-42C6-AA1F-E6E712B9F8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Tópicos em Sistemas de Informação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nologia 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660033"/>
                </a:solidFill>
                <a:latin typeface="Times New Roman"/>
              </a:rPr>
              <a:t>Funcionamento WAP 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finalidade de WTA é fornecer meios para criar serviços de telefonia (voz) usando WAP. A interface entre as funções relacionadas à telefonia no dispositivo WAP é chamada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WTA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Wireless Telephony Application Interface ou Interface para Aplicações de Telefonia Wirele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o browser WAP é usado para solicitar informação, o pedido da URL é enviado usando os protocolos WAP. Esse pedido é enviado através da rede wireless para 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ateway WA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O gateway permite aos usuários da rede wireless conectarem-se à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660033"/>
                </a:solidFill>
                <a:latin typeface="Times New Roman"/>
              </a:rPr>
              <a:t>Comparando WAP com Interne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solicitação é enviada de um computador até um servidor Web através da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servidor interpreta a solicitação e envia a resposta ao computador que a solicitou, onde será exib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tut004-1" descr=""/>
          <p:cNvPicPr/>
          <p:nvPr/>
        </p:nvPicPr>
        <p:blipFill>
          <a:blip r:embed="rId1"/>
          <a:stretch/>
        </p:blipFill>
        <p:spPr>
          <a:xfrm>
            <a:off x="1143000" y="1746360"/>
            <a:ext cx="3209760" cy="4044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825200" y="591192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0033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660033"/>
                </a:solidFill>
                <a:latin typeface="Times New Roman"/>
              </a:rPr>
              <a:t>Comparando WAP com Interne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191120" y="2075040"/>
            <a:ext cx="4419360" cy="27255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504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dispositivo WAP (um telefone celular, por exemplo), envia uma solicitação através da rede wireless para um Gateway WAP. O gateway converte a requisição para um protocolo da Web e a envia para o servidor W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2400" y="502920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0033"/>
                </a:solidFill>
                <a:latin typeface="Times New Roman"/>
              </a:rPr>
              <a:t>W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660033"/>
                </a:solidFill>
                <a:latin typeface="Times New Roman"/>
              </a:rPr>
              <a:t>Comparando WAP com Interne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1600200"/>
            <a:ext cx="2971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servidor Web envia a resposta para o gateway onde a mesma é convertida e codificada, sendo enviada através da rede wireless até o dispositivo que originou a solicitação, onde é exib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191120" y="2075040"/>
            <a:ext cx="4419360" cy="2725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792400" y="5029200"/>
            <a:ext cx="11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0033"/>
                </a:solidFill>
                <a:latin typeface="Times New Roman"/>
              </a:rPr>
              <a:t>W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660033"/>
                </a:solidFill>
                <a:latin typeface="Times New Roman"/>
              </a:rPr>
              <a:t>Comparando WAP com Interne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 mercado é mais abrang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 largura de banda é me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elays são mais freqü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ispositivos com pouco poder de processamento, memória reduzida, pequeno display e entrada de dados limit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660033"/>
                </a:solidFill>
                <a:latin typeface="Times New Roman"/>
              </a:rPr>
              <a:t>Arquitetura WAP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5800" y="1695600"/>
            <a:ext cx="82296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660033"/>
                </a:solidFill>
                <a:latin typeface="Times New Roman"/>
              </a:rPr>
              <a:t>Qual o sistema de segurança utilizado nos telefones WAP? </a:t>
            </a:r>
            <a:endParaRPr b="0" lang="en-US" sz="3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aparelhos WAP vêm com um protocolo de criptografia e autenticação chamado Wireless Transport Layer Security (WTLS - camada de transporte de segurança sem fio), que garante a privacidade da conexão, possibilitando a navegação de forma segura entre o celular e a central telefônica. Este protocolo possibilita adicionalmente a verificação da autencidade tanto do aparelho celular quanto do prove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660033"/>
                </a:solidFill>
                <a:latin typeface="Times New Roman"/>
              </a:rPr>
              <a:t>Perspectiva WAP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gitando-se WAP dentro de qualquer das ferramentas de busca na Internet, o resultado, invariavelmente será uma montanha de links apontando para artigos, software e páginas corporativ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Julho de 2000 a Amazon.com e a Sprint (www.sprint.com) iniciaram a venda de produtos que podem ser comprados pelos usuários usando o telefone cel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660033"/>
                </a:solidFill>
                <a:latin typeface="Times New Roman"/>
              </a:rPr>
              <a:t>Perspectiva WAP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GVT testou em abril deste ano ADSL sem fio usando a tecnologia EMGW (Enhanced Multigain Wireless) com velocidade de até 512 Kb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s países mais desenvolvidos tecnologicamente está se tornando cada vez mais comum encontrarmos redes wireless em escritó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3403040" descr=""/>
          <p:cNvPicPr/>
          <p:nvPr/>
        </p:nvPicPr>
        <p:blipFill>
          <a:blip r:embed="rId1"/>
          <a:stretch/>
        </p:blipFill>
        <p:spPr>
          <a:xfrm>
            <a:off x="4038480" y="5456160"/>
            <a:ext cx="2438640" cy="1401840"/>
          </a:xfrm>
          <a:prstGeom prst="rect">
            <a:avLst/>
          </a:prstGeom>
          <a:ln w="0">
            <a:noFill/>
          </a:ln>
        </p:spPr>
      </p:pic>
      <p:pic>
        <p:nvPicPr>
          <p:cNvPr id="154" name="3920846" descr=""/>
          <p:cNvPicPr/>
          <p:nvPr/>
        </p:nvPicPr>
        <p:blipFill>
          <a:blip r:embed="rId2"/>
          <a:stretch/>
        </p:blipFill>
        <p:spPr>
          <a:xfrm>
            <a:off x="6553080" y="4952880"/>
            <a:ext cx="153540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660033"/>
                </a:solidFill>
                <a:latin typeface="Times New Roman"/>
              </a:rPr>
              <a:t>Fontes de Informação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renda 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www.aprendawap.com.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Wap For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www.wapforum.c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-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www.e-wap.com.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660033"/>
                </a:solidFill>
                <a:latin typeface="Times New Roman"/>
              </a:rPr>
              <a:t>Seminário Tecnologia WAP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ciplina: Tópicos em Sistemas de Infor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f.: Dr. Marcelo A. S. T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rupo ADG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exandre Fabrício de Olivei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aniel André Janz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Giovane Duarte Gar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saac Borges Capillé Jun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660033"/>
                </a:solidFill>
                <a:latin typeface="Times New Roman"/>
              </a:rPr>
              <a:t>Tópicos Abordado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rigens do 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que é 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uncionamento 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arando WAP com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quitetura 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rança 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spectiva 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ntes de Infor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660033"/>
                </a:solidFill>
                <a:latin typeface="Times New Roman"/>
              </a:rPr>
              <a:t>Origens do WAP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Wap Fórum - www.wapforum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ado em 12/1997 (Nokia, Motorola, Ericsson, Phone.c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is de 200 membros at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envolveu um padrão “de facto” para comunicação wir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660033"/>
                </a:solidFill>
                <a:latin typeface="Times New Roman"/>
              </a:rPr>
              <a:t>O que é WAP?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Wireless Application Protocol (WAP) é uma especificação aberta e global, que visa permitir que usuários de dispositivos móveis sem fio (telefones celulares, pagers, rádios, PDA's e handheld em geral), acessem facilmente informações e serviços de forma instantânea. Esta especificação foi desenvolvida pelo WAP Fórum e está sendo amplamente adotada pela indústria, possibilitando o acesso à Internet através de aparelhos de telefonia cel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660033"/>
                </a:solidFill>
                <a:latin typeface="Times New Roman"/>
              </a:rPr>
              <a:t>Equipamentos WAP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15" name="3403040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4902480" cy="2819520"/>
          </a:xfrm>
          <a:prstGeom prst="rect">
            <a:avLst/>
          </a:prstGeom>
          <a:ln w="0">
            <a:noFill/>
          </a:ln>
        </p:spPr>
      </p:pic>
      <p:pic>
        <p:nvPicPr>
          <p:cNvPr id="116" name="3920846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3086280" cy="2921040"/>
          </a:xfrm>
          <a:prstGeom prst="rect">
            <a:avLst/>
          </a:prstGeom>
          <a:ln w="0">
            <a:noFill/>
          </a:ln>
        </p:spPr>
      </p:pic>
      <p:pic>
        <p:nvPicPr>
          <p:cNvPr id="117" name="5020189" descr=""/>
          <p:cNvPicPr/>
          <p:nvPr/>
        </p:nvPicPr>
        <p:blipFill>
          <a:blip r:embed="rId3"/>
          <a:stretch/>
        </p:blipFill>
        <p:spPr>
          <a:xfrm>
            <a:off x="5334120" y="1600200"/>
            <a:ext cx="1574640" cy="2921040"/>
          </a:xfrm>
          <a:prstGeom prst="rect">
            <a:avLst/>
          </a:prstGeom>
          <a:ln w="0">
            <a:noFill/>
          </a:ln>
        </p:spPr>
      </p:pic>
      <p:pic>
        <p:nvPicPr>
          <p:cNvPr id="118" name="5020253" descr=""/>
          <p:cNvPicPr/>
          <p:nvPr/>
        </p:nvPicPr>
        <p:blipFill>
          <a:blip r:embed="rId4"/>
          <a:stretch/>
        </p:blipFill>
        <p:spPr>
          <a:xfrm>
            <a:off x="7074000" y="3657600"/>
            <a:ext cx="2070000" cy="2921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715000" y="44956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el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001000" y="6324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243828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laca de Rede Wirel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8006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Wireless 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660033"/>
                </a:solidFill>
                <a:latin typeface="Times New Roman"/>
              </a:rPr>
              <a:t>Funcionamento WAP 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AP permite o envio de informações e serviços de forma facilitada para usuários móveis, independentemente de hora e lugar. Um dispositivo WAP é necessário para acessar esses serviços. Um dispositivo WAP pode ser um telefone celular, um PDA ou um computador do tipo handh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visualizar informações e serviços através da rede wireless, o dispositivo WAP necessita ter instalado um browser WAP, chamado de microbrow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660033"/>
                </a:solidFill>
                <a:latin typeface="Times New Roman"/>
              </a:rPr>
              <a:t>Funcionamento WAP 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browser interpreta e exibe conteúdo desenvolvido para o ambiente WAP. Esse conteúdo é criado através da linguage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WM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Wireless Markup Language ou Linguagem de Marcação Wireless). A WML é semelhante à HTML que é usada na criação de sites da Web. Mas, ao contrário da HTML, WML foi criada para atender às necessidades dos dispositivos e redes wirel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acrescentar recursos dinâmicos às aplicações WML, usa-se a linguage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WMLScrip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uma linguagem semelhante à JavaScript. Tanto WML como WMLScript são adaptadas e otimizadas para o ambiente wirel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660033"/>
                </a:solidFill>
                <a:latin typeface="Times New Roman"/>
              </a:rPr>
              <a:t>Funcionamento WAP 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conteúdo WML consiste de um ou mais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card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e não é construído como páginas da Web. WML usa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card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deck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ara especificar seu conteúdo. Um card é normalmente uma unidade de interação com o usuário e um deck seria o mesmo que uma pági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padrão WAP define um ambiente de aplicações e protocolos de aplicações. Ele também define a tecnologia conhecida como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WT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(Wireless Telephony Application ou Aplicações em Telefonia Wireles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7T15:01:31Z</dcterms:created>
  <dc:creator>XP</dc:creator>
  <dc:description/>
  <dc:language>en-US</dc:language>
  <cp:lastModifiedBy>daj</cp:lastModifiedBy>
  <dcterms:modified xsi:type="dcterms:W3CDTF">2002-08-09T22:20:46Z</dcterms:modified>
  <cp:revision>23</cp:revision>
  <dc:subject/>
  <dc:title>Adventure Works Annik Stahl July 2002</dc:title>
</cp:coreProperties>
</file>